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0FEF-6646-45BE-AB22-F6634D9E2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6495-73B5-4DAB-A619-D621684AB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569F-28AF-4375-9E42-15F1815AB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6D4A-D0F2-40F1-AD21-9AA994BA8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17568-18D9-491A-BAC2-77ACB09F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F3539-227D-42F8-84DF-B7F4AA5D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A0D73-A4DF-438A-BFF2-12D5C1F0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153AD-C787-4825-B9A2-525E0445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F4E97-CEC0-4BD0-AA17-A21B4E30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7105C-5FB8-4F30-BE61-710CE56C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6049B-717E-40F9-9004-0A1B47F8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5119-20DC-4C82-8E4A-E81A5B7E6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CBC2F-DD4C-4A0F-B314-6FD7B330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FB6F6-7DD4-4087-B8DA-3D19C7CE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BC92D-2E97-4BAD-9AF3-344C4755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A2268-B514-49C0-8DB2-CBA267D2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45CEE-B6B5-449D-A270-450B63F4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8C217-38AC-42B0-8B41-B4B3E1DE2B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82C68-6CF4-48F0-A18B-3B07FBEF73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106F4-C538-4D3B-8C36-BA66FE258D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AB69F-FD88-4C65-9424-6B1C5DB797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F3A33-CCEB-4808-B9D1-4095ADE09B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D371-70E8-471E-9476-A5321482DD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28955-66FC-4B37-AA36-E955E5438B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DD2CF-262A-48E9-BFED-E32D094E70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E4F03-CE68-46AC-869E-D28A34693A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70906-08AB-4F65-B17F-7187FCDCFB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03FC5-1DC9-4A94-AE4F-528E9353AE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15F7E-4755-44A1-9A3B-94DEA169CB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731EF-6ABF-4A7C-8C68-4DB91FC4F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71B2-7EFE-4B72-B689-44B5AA916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1491-7286-4DCB-A226-E89558186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BE621-65EE-4392-B9DD-CCC598C5B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E3B9-CA9E-4048-B48F-CD1DE2BE7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DF39-FC66-414F-9714-0E2FD0F2A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7ED7-06CF-48F1-AD28-508E8B7DB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380880" y="76320"/>
            <a:ext cx="8339400" cy="10666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2" name="Oval 7"/>
          <p:cNvSpPr/>
          <p:nvPr/>
        </p:nvSpPr>
        <p:spPr>
          <a:xfrm>
            <a:off x="76320" y="990720"/>
            <a:ext cx="609480" cy="533160"/>
          </a:xfrm>
          <a:prstGeom prst="ellipse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Freeform 10"/>
          <p:cNvSpPr/>
          <p:nvPr/>
        </p:nvSpPr>
        <p:spPr>
          <a:xfrm>
            <a:off x="380880" y="76320"/>
            <a:ext cx="22860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Freeform 11"/>
          <p:cNvSpPr/>
          <p:nvPr/>
        </p:nvSpPr>
        <p:spPr>
          <a:xfrm>
            <a:off x="8229600" y="76320"/>
            <a:ext cx="26208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210440" y="28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01A3-6EDE-4BC9-979D-AFE8A5D15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Oval 13"/>
          <p:cNvSpPr/>
          <p:nvPr/>
        </p:nvSpPr>
        <p:spPr>
          <a:xfrm>
            <a:off x="0" y="1371600"/>
            <a:ext cx="457200" cy="380880"/>
          </a:xfrm>
          <a:prstGeom prst="ellipse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Oval 16"/>
          <p:cNvSpPr/>
          <p:nvPr/>
        </p:nvSpPr>
        <p:spPr>
          <a:xfrm>
            <a:off x="8686800" y="0"/>
            <a:ext cx="457200" cy="380880"/>
          </a:xfrm>
          <a:prstGeom prst="ellipse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1A93-21AC-4E8C-A430-5D156F7CE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914400" y="1523880"/>
            <a:ext cx="7623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subtitle sty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13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92" name="AutoShape 5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AutoShape 6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99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e699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D93E-7A37-4A40-A767-0DEAD4FC9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210440" y="28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5611-A3BB-4FE9-BDFC-19CAEF98A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vantGarde"/>
              </a:rPr>
              <a:t>Another Simple Program: Adding Two Integers </a:t>
            </a: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 in memory where value can be st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integer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floating point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variables with name and data type before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int integer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int integer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int su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declare several variables of same type in one decla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a-separa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int integer1, integer2, s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7210440" y="28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8D4D-681A-4FD8-A75D-17D2E2AA0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vantGarde"/>
              </a:rPr>
              <a:t>Memory Concepts</a:t>
            </a: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rrespond to actual locations in computer's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variable has name, type, size and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new value placed into variable, overwrites previous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d::cin &gt;&gt; integer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ume user entered 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d::cin &gt;&gt; integer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ume user entered 7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m = integer1 + integer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6629400" y="4119480"/>
            <a:ext cx="1574640" cy="870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6629400" y="3429000"/>
            <a:ext cx="1574640" cy="519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17"/>
          <p:cNvSpPr/>
          <p:nvPr/>
        </p:nvSpPr>
        <p:spPr>
          <a:xfrm>
            <a:off x="6629400" y="5167440"/>
            <a:ext cx="1574640" cy="12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0" name="Group 18"/>
          <p:cNvGrpSpPr/>
          <p:nvPr/>
        </p:nvGrpSpPr>
        <p:grpSpPr>
          <a:xfrm>
            <a:off x="6687720" y="3559320"/>
            <a:ext cx="1459440" cy="258120"/>
            <a:chOff x="6687720" y="3559320"/>
            <a:chExt cx="1459440" cy="258120"/>
          </a:xfrm>
        </p:grpSpPr>
        <p:sp>
          <p:nvSpPr>
            <p:cNvPr id="221" name="Rectangle 19"/>
            <p:cNvSpPr/>
            <p:nvPr/>
          </p:nvSpPr>
          <p:spPr>
            <a:xfrm>
              <a:off x="7701840" y="3559320"/>
              <a:ext cx="445320" cy="255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20"/>
            <p:cNvSpPr/>
            <p:nvPr/>
          </p:nvSpPr>
          <p:spPr>
            <a:xfrm>
              <a:off x="7109280" y="3573720"/>
              <a:ext cx="4698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21"/>
            <p:cNvSpPr/>
            <p:nvPr/>
          </p:nvSpPr>
          <p:spPr>
            <a:xfrm>
              <a:off x="6687720" y="3573720"/>
              <a:ext cx="975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ger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22"/>
            <p:cNvSpPr/>
            <p:nvPr/>
          </p:nvSpPr>
          <p:spPr>
            <a:xfrm>
              <a:off x="7804440" y="355932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5" name="Group 23"/>
          <p:cNvGrpSpPr/>
          <p:nvPr/>
        </p:nvGrpSpPr>
        <p:grpSpPr>
          <a:xfrm>
            <a:off x="6687720" y="4222800"/>
            <a:ext cx="1459440" cy="258120"/>
            <a:chOff x="6687720" y="4222800"/>
            <a:chExt cx="1459440" cy="258120"/>
          </a:xfrm>
        </p:grpSpPr>
        <p:sp>
          <p:nvSpPr>
            <p:cNvPr id="226" name="Rectangle 24"/>
            <p:cNvSpPr/>
            <p:nvPr/>
          </p:nvSpPr>
          <p:spPr>
            <a:xfrm>
              <a:off x="7701840" y="4222800"/>
              <a:ext cx="445320" cy="256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25"/>
            <p:cNvSpPr/>
            <p:nvPr/>
          </p:nvSpPr>
          <p:spPr>
            <a:xfrm>
              <a:off x="7109280" y="4237200"/>
              <a:ext cx="4698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Rectangle 26"/>
            <p:cNvSpPr/>
            <p:nvPr/>
          </p:nvSpPr>
          <p:spPr>
            <a:xfrm>
              <a:off x="6687720" y="4237200"/>
              <a:ext cx="975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ger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Rectangle 27"/>
            <p:cNvSpPr/>
            <p:nvPr/>
          </p:nvSpPr>
          <p:spPr>
            <a:xfrm>
              <a:off x="7804440" y="422280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0" name="Group 28"/>
          <p:cNvGrpSpPr/>
          <p:nvPr/>
        </p:nvGrpSpPr>
        <p:grpSpPr>
          <a:xfrm>
            <a:off x="6687720" y="4624560"/>
            <a:ext cx="1459440" cy="257040"/>
            <a:chOff x="6687720" y="4624560"/>
            <a:chExt cx="1459440" cy="257040"/>
          </a:xfrm>
        </p:grpSpPr>
        <p:sp>
          <p:nvSpPr>
            <p:cNvPr id="231" name="Rectangle 29"/>
            <p:cNvSpPr/>
            <p:nvPr/>
          </p:nvSpPr>
          <p:spPr>
            <a:xfrm>
              <a:off x="7701840" y="4624560"/>
              <a:ext cx="445320" cy="257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30"/>
            <p:cNvSpPr/>
            <p:nvPr/>
          </p:nvSpPr>
          <p:spPr>
            <a:xfrm>
              <a:off x="7109280" y="4638960"/>
              <a:ext cx="4698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31"/>
            <p:cNvSpPr/>
            <p:nvPr/>
          </p:nvSpPr>
          <p:spPr>
            <a:xfrm>
              <a:off x="6687720" y="4636440"/>
              <a:ext cx="975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ger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32"/>
            <p:cNvSpPr/>
            <p:nvPr/>
          </p:nvSpPr>
          <p:spPr>
            <a:xfrm>
              <a:off x="7804440" y="462456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5" name="Group 33"/>
          <p:cNvGrpSpPr/>
          <p:nvPr/>
        </p:nvGrpSpPr>
        <p:grpSpPr>
          <a:xfrm>
            <a:off x="6687720" y="5270400"/>
            <a:ext cx="1459440" cy="257400"/>
            <a:chOff x="6687720" y="5270400"/>
            <a:chExt cx="1459440" cy="257400"/>
          </a:xfrm>
        </p:grpSpPr>
        <p:sp>
          <p:nvSpPr>
            <p:cNvPr id="236" name="Rectangle 34"/>
            <p:cNvSpPr/>
            <p:nvPr/>
          </p:nvSpPr>
          <p:spPr>
            <a:xfrm>
              <a:off x="7701840" y="5270400"/>
              <a:ext cx="445320" cy="2574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35"/>
            <p:cNvSpPr/>
            <p:nvPr/>
          </p:nvSpPr>
          <p:spPr>
            <a:xfrm>
              <a:off x="7109280" y="5284800"/>
              <a:ext cx="4698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36"/>
            <p:cNvSpPr/>
            <p:nvPr/>
          </p:nvSpPr>
          <p:spPr>
            <a:xfrm>
              <a:off x="6687720" y="5282280"/>
              <a:ext cx="975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ger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37"/>
            <p:cNvSpPr/>
            <p:nvPr/>
          </p:nvSpPr>
          <p:spPr>
            <a:xfrm>
              <a:off x="7804440" y="527040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0" name="Group 38"/>
          <p:cNvGrpSpPr/>
          <p:nvPr/>
        </p:nvGrpSpPr>
        <p:grpSpPr>
          <a:xfrm>
            <a:off x="6687720" y="5659560"/>
            <a:ext cx="1459440" cy="258120"/>
            <a:chOff x="6687720" y="5659560"/>
            <a:chExt cx="1459440" cy="258120"/>
          </a:xfrm>
        </p:grpSpPr>
        <p:sp>
          <p:nvSpPr>
            <p:cNvPr id="241" name="Rectangle 39"/>
            <p:cNvSpPr/>
            <p:nvPr/>
          </p:nvSpPr>
          <p:spPr>
            <a:xfrm>
              <a:off x="7701840" y="5659560"/>
              <a:ext cx="445320" cy="255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Rectangle 40"/>
            <p:cNvSpPr/>
            <p:nvPr/>
          </p:nvSpPr>
          <p:spPr>
            <a:xfrm>
              <a:off x="7109280" y="5673960"/>
              <a:ext cx="4698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Rectangle 41"/>
            <p:cNvSpPr/>
            <p:nvPr/>
          </p:nvSpPr>
          <p:spPr>
            <a:xfrm>
              <a:off x="6687720" y="5673960"/>
              <a:ext cx="975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ger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Rectangle 42"/>
            <p:cNvSpPr/>
            <p:nvPr/>
          </p:nvSpPr>
          <p:spPr>
            <a:xfrm>
              <a:off x="7804440" y="565956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5" name="Group 43"/>
          <p:cNvGrpSpPr/>
          <p:nvPr/>
        </p:nvGrpSpPr>
        <p:grpSpPr>
          <a:xfrm>
            <a:off x="7108920" y="6060960"/>
            <a:ext cx="1062360" cy="258120"/>
            <a:chOff x="7108920" y="6060960"/>
            <a:chExt cx="1062360" cy="258120"/>
          </a:xfrm>
        </p:grpSpPr>
        <p:sp>
          <p:nvSpPr>
            <p:cNvPr id="246" name="Rectangle 44"/>
            <p:cNvSpPr/>
            <p:nvPr/>
          </p:nvSpPr>
          <p:spPr>
            <a:xfrm>
              <a:off x="7701480" y="6060960"/>
              <a:ext cx="445680" cy="2574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Rectangle 45"/>
            <p:cNvSpPr/>
            <p:nvPr/>
          </p:nvSpPr>
          <p:spPr>
            <a:xfrm>
              <a:off x="7108920" y="6075360"/>
              <a:ext cx="47052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46"/>
            <p:cNvSpPr/>
            <p:nvPr/>
          </p:nvSpPr>
          <p:spPr>
            <a:xfrm>
              <a:off x="7197840" y="6075360"/>
              <a:ext cx="38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Rectangle 47"/>
            <p:cNvSpPr/>
            <p:nvPr/>
          </p:nvSpPr>
          <p:spPr>
            <a:xfrm>
              <a:off x="7804800" y="606096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17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210440" y="28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1EA3-D7F2-4398-B6DA-663D44906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vantGarde"/>
              </a:rPr>
              <a:t>Basics of a Typical C++ Environment</a:t>
            </a: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Input/outpu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99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Courier New"/>
              </a:rPr>
              <a:t>c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in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key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99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Courier New"/>
              </a:rPr>
              <a:t>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out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computer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7210440" y="28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03 Pearson Education, In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093015C8-CF4E-479D-BABC-3B6D30988F4E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vantGarde"/>
              </a:rPr>
              <a:t>Program Layout (2/3)</a:t>
            </a: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are declared before they ar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variables are declared at the beginning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ments (not always lines) end with a semi-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Directiv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#include &lt;iostream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ls compiler where to find information about ite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stream is a library containing definitions of cin and c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210440" y="28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03 Pearson Education, In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BED5A84C-D7B6-4732-A79F-4BBAC33BD5D8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vantGarde"/>
              </a:rPr>
              <a:t>Program Layout (3/3)</a:t>
            </a: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48840" cy="49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gin the main function of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{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nd the main fun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function ends with a return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210440" y="28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B662-076D-47E8-970C-D6B02DEC21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vantGarde"/>
              </a:rPr>
              <a:t>A Simple Program: Printing a Line of Text</a:t>
            </a: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writing the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rocessor direc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ed by preprocessor before compi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272D-EC4F-4E8B-AE85-C7B653C33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01_02.cpp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01_02.cpp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e699"/>
              </a:solidFill>
              <a:latin typeface="AvantGar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900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2: fig01_02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first program in C++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 to C++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289548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rmAutofit fontScale="92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 to C++!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2971800" y="228600"/>
            <a:ext cx="3505320" cy="337320"/>
            <a:chOff x="2971800" y="228600"/>
            <a:chExt cx="3505320" cy="337320"/>
          </a:xfrm>
        </p:grpSpPr>
        <p:sp>
          <p:nvSpPr>
            <p:cNvPr id="156" name="Text Box 5"/>
            <p:cNvSpPr/>
            <p:nvPr/>
          </p:nvSpPr>
          <p:spPr>
            <a:xfrm>
              <a:off x="4419720" y="2286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gle-line comments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 flipH="1" flipV="1">
              <a:off x="2971800" y="30456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 flipH="1">
              <a:off x="2971800" y="38088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2209680" y="665280"/>
            <a:ext cx="4114800" cy="824040"/>
            <a:chOff x="2209680" y="665280"/>
            <a:chExt cx="4114800" cy="824040"/>
          </a:xfrm>
        </p:grpSpPr>
        <p:sp>
          <p:nvSpPr>
            <p:cNvPr id="160" name="Text Box 9"/>
            <p:cNvSpPr/>
            <p:nvPr/>
          </p:nvSpPr>
          <p:spPr>
            <a:xfrm>
              <a:off x="3657600" y="665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rocessor directive to include input/output stream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lt;iostream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 flipH="1" flipV="1">
              <a:off x="2209680" y="74124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1447920" y="993600"/>
            <a:ext cx="4114800" cy="824040"/>
            <a:chOff x="1447920" y="993600"/>
            <a:chExt cx="4114800" cy="824040"/>
          </a:xfrm>
        </p:grpSpPr>
        <p:sp>
          <p:nvSpPr>
            <p:cNvPr id="163" name="Text Box 12"/>
            <p:cNvSpPr/>
            <p:nvPr/>
          </p:nvSpPr>
          <p:spPr>
            <a:xfrm>
              <a:off x="2895840" y="993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ppears exactly once in every C++ program.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13"/>
            <p:cNvSpPr/>
            <p:nvPr/>
          </p:nvSpPr>
          <p:spPr>
            <a:xfrm flipH="1">
              <a:off x="1447920" y="1145880"/>
              <a:ext cx="144792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5" name="Group 17"/>
          <p:cNvGrpSpPr/>
          <p:nvPr/>
        </p:nvGrpSpPr>
        <p:grpSpPr>
          <a:xfrm>
            <a:off x="533160" y="457200"/>
            <a:ext cx="4115160" cy="838080"/>
            <a:chOff x="533160" y="457200"/>
            <a:chExt cx="4115160" cy="838080"/>
          </a:xfrm>
        </p:grpSpPr>
        <p:sp>
          <p:nvSpPr>
            <p:cNvPr id="166" name="Text Box 15"/>
            <p:cNvSpPr/>
            <p:nvPr/>
          </p:nvSpPr>
          <p:spPr>
            <a:xfrm>
              <a:off x="1981080" y="4572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an integer value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H="1">
              <a:off x="533160" y="609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8" name="Group 20"/>
          <p:cNvGrpSpPr/>
          <p:nvPr/>
        </p:nvGrpSpPr>
        <p:grpSpPr>
          <a:xfrm>
            <a:off x="609480" y="741240"/>
            <a:ext cx="4114800" cy="838440"/>
            <a:chOff x="609480" y="741240"/>
            <a:chExt cx="4114800" cy="838440"/>
          </a:xfrm>
        </p:grpSpPr>
        <p:sp>
          <p:nvSpPr>
            <p:cNvPr id="169" name="Text Box 18"/>
            <p:cNvSpPr/>
            <p:nvPr/>
          </p:nvSpPr>
          <p:spPr>
            <a:xfrm>
              <a:off x="2057400" y="7412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f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{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gins function body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Line 19"/>
            <p:cNvSpPr/>
            <p:nvPr/>
          </p:nvSpPr>
          <p:spPr>
            <a:xfrm flipH="1">
              <a:off x="609480" y="893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533160" y="1828800"/>
            <a:ext cx="4115160" cy="838080"/>
            <a:chOff x="533160" y="1828800"/>
            <a:chExt cx="4115160" cy="838080"/>
          </a:xfrm>
        </p:grpSpPr>
        <p:sp>
          <p:nvSpPr>
            <p:cNvPr id="172" name="Text Box 21"/>
            <p:cNvSpPr/>
            <p:nvPr/>
          </p:nvSpPr>
          <p:spPr>
            <a:xfrm>
              <a:off x="1981080" y="18288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rresponding righ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nds function body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2"/>
            <p:cNvSpPr/>
            <p:nvPr/>
          </p:nvSpPr>
          <p:spPr>
            <a:xfrm flipH="1">
              <a:off x="533160" y="1981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4" name="Group 26"/>
          <p:cNvGrpSpPr/>
          <p:nvPr/>
        </p:nvGrpSpPr>
        <p:grpSpPr>
          <a:xfrm>
            <a:off x="3886200" y="990720"/>
            <a:ext cx="4114800" cy="837720"/>
            <a:chOff x="3886200" y="990720"/>
            <a:chExt cx="4114800" cy="837720"/>
          </a:xfrm>
        </p:grpSpPr>
        <p:sp>
          <p:nvSpPr>
            <p:cNvPr id="175" name="Text Box 24"/>
            <p:cNvSpPr/>
            <p:nvPr/>
          </p:nvSpPr>
          <p:spPr>
            <a:xfrm>
              <a:off x="5334120" y="990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ments end with a semicol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Line 25"/>
            <p:cNvSpPr/>
            <p:nvPr/>
          </p:nvSpPr>
          <p:spPr>
            <a:xfrm flipH="1">
              <a:off x="3886200" y="114300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7" name="Group 29"/>
          <p:cNvGrpSpPr/>
          <p:nvPr/>
        </p:nvGrpSpPr>
        <p:grpSpPr>
          <a:xfrm>
            <a:off x="1066680" y="1920960"/>
            <a:ext cx="4114800" cy="980640"/>
            <a:chOff x="1066680" y="1920960"/>
            <a:chExt cx="4114800" cy="980640"/>
          </a:xfrm>
        </p:grpSpPr>
        <p:sp>
          <p:nvSpPr>
            <p:cNvPr id="178" name="Text Box 27"/>
            <p:cNvSpPr/>
            <p:nvPr/>
          </p:nvSpPr>
          <p:spPr>
            <a:xfrm>
              <a:off x="2514600" y="2320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longs to namesp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Line 28"/>
            <p:cNvSpPr/>
            <p:nvPr/>
          </p:nvSpPr>
          <p:spPr>
            <a:xfrm flipH="1" flipV="1">
              <a:off x="1066680" y="1920960"/>
              <a:ext cx="144792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0" name="Group 32"/>
          <p:cNvGrpSpPr/>
          <p:nvPr/>
        </p:nvGrpSpPr>
        <p:grpSpPr>
          <a:xfrm>
            <a:off x="1752480" y="1905120"/>
            <a:ext cx="4114800" cy="683280"/>
            <a:chOff x="1752480" y="1905120"/>
            <a:chExt cx="4114800" cy="683280"/>
          </a:xfrm>
        </p:grpSpPr>
        <p:sp>
          <p:nvSpPr>
            <p:cNvPr id="181" name="Text Box 30"/>
            <p:cNvSpPr/>
            <p:nvPr/>
          </p:nvSpPr>
          <p:spPr>
            <a:xfrm>
              <a:off x="3200400" y="22510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eam insertion operator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Line 31"/>
            <p:cNvSpPr/>
            <p:nvPr/>
          </p:nvSpPr>
          <p:spPr>
            <a:xfrm flipH="1" flipV="1">
              <a:off x="1752480" y="1905120"/>
              <a:ext cx="144792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3" name="Group 35"/>
          <p:cNvGrpSpPr/>
          <p:nvPr/>
        </p:nvGrpSpPr>
        <p:grpSpPr>
          <a:xfrm>
            <a:off x="1447560" y="2403000"/>
            <a:ext cx="4191120" cy="1727280"/>
            <a:chOff x="1447560" y="2403000"/>
            <a:chExt cx="4191120" cy="1727280"/>
          </a:xfrm>
        </p:grpSpPr>
        <p:sp>
          <p:nvSpPr>
            <p:cNvPr id="184" name="Text Box 33"/>
            <p:cNvSpPr/>
            <p:nvPr/>
          </p:nvSpPr>
          <p:spPr>
            <a:xfrm>
              <a:off x="2971800" y="28195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one of several means to exit function; val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dicates program terminated successfully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Line 34"/>
            <p:cNvSpPr/>
            <p:nvPr/>
          </p:nvSpPr>
          <p:spPr>
            <a:xfrm flipH="1" flipV="1">
              <a:off x="1447560" y="2403000"/>
              <a:ext cx="152388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210440" y="28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DE23-58CD-407B-9252-3AB5B2E20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vantGarde"/>
              </a:rPr>
              <a:t>A Simple Program: Printing a Line of Text</a:t>
            </a: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output stream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Courier New"/>
              </a:rPr>
              <a:t>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ed” to 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Courier New"/>
              </a:rPr>
              <a:t>&lt;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 insertion ope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to right (right operand) inserted into output str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210440" y="28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3A6B-50D0-419E-B1D9-EE419A717E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vantGarde"/>
              </a:rPr>
              <a:t>Another Simple Program: Adding Two Integers</a:t>
            </a: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stream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tream extraction operator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with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std::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s for user to input value, then pres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eturn)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s value in variable to right of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value to variable dat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ssignment oper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s value to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nary operator (two operan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variable1 + variabl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9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D0F7-4BC0-421F-85C6-536D00B38D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01_06.cpp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e699"/>
              </a:solidFill>
              <a:latin typeface="AvantGar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49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6: fig01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ition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number to be input by us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cond number to be input by user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ariable in which sum will be sto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first integ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in &gt;&gt; integer1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ad an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second integ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in &gt;&gt; integer2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an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um = integer1 + integer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result to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m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um &lt;&lt; std::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8"/>
          <p:cNvGrpSpPr/>
          <p:nvPr/>
        </p:nvGrpSpPr>
        <p:grpSpPr>
          <a:xfrm>
            <a:off x="1523880" y="1336680"/>
            <a:ext cx="4648320" cy="949320"/>
            <a:chOff x="1523880" y="1336680"/>
            <a:chExt cx="4648320" cy="949320"/>
          </a:xfrm>
        </p:grpSpPr>
        <p:sp>
          <p:nvSpPr>
            <p:cNvPr id="196" name="Text Box 4"/>
            <p:cNvSpPr/>
            <p:nvPr/>
          </p:nvSpPr>
          <p:spPr>
            <a:xfrm>
              <a:off x="3505320" y="13366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integer variables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 flipH="1">
              <a:off x="2057400" y="1523880"/>
              <a:ext cx="144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 flipH="1">
              <a:off x="2057400" y="152388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7"/>
            <p:cNvSpPr/>
            <p:nvPr/>
          </p:nvSpPr>
          <p:spPr>
            <a:xfrm flipH="1">
              <a:off x="1523880" y="1523880"/>
              <a:ext cx="19814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0" name="Group 11"/>
          <p:cNvGrpSpPr/>
          <p:nvPr/>
        </p:nvGrpSpPr>
        <p:grpSpPr>
          <a:xfrm>
            <a:off x="1676160" y="1981080"/>
            <a:ext cx="4115160" cy="838440"/>
            <a:chOff x="1676160" y="1981080"/>
            <a:chExt cx="4115160" cy="838440"/>
          </a:xfrm>
        </p:grpSpPr>
        <p:sp>
          <p:nvSpPr>
            <p:cNvPr id="201" name="Text Box 9"/>
            <p:cNvSpPr/>
            <p:nvPr/>
          </p:nvSpPr>
          <p:spPr>
            <a:xfrm>
              <a:off x="3124080" y="1981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stream extraction operator with standard input stream to obtain user input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Line 10"/>
            <p:cNvSpPr/>
            <p:nvPr/>
          </p:nvSpPr>
          <p:spPr>
            <a:xfrm flipH="1">
              <a:off x="1676160" y="2133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3" name="Group 14"/>
          <p:cNvGrpSpPr/>
          <p:nvPr/>
        </p:nvGrpSpPr>
        <p:grpSpPr>
          <a:xfrm>
            <a:off x="4343400" y="3484440"/>
            <a:ext cx="4114800" cy="1067400"/>
            <a:chOff x="4343400" y="3484440"/>
            <a:chExt cx="4114800" cy="1067400"/>
          </a:xfrm>
        </p:grpSpPr>
        <p:sp>
          <p:nvSpPr>
            <p:cNvPr id="204" name="Text Box 12"/>
            <p:cNvSpPr/>
            <p:nvPr/>
          </p:nvSpPr>
          <p:spPr>
            <a:xfrm>
              <a:off x="5791320" y="348444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eam manipul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d::end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puts a newline, then “flushes output buffer.”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Line 13"/>
            <p:cNvSpPr/>
            <p:nvPr/>
          </p:nvSpPr>
          <p:spPr>
            <a:xfrm flipH="1">
              <a:off x="434340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6" name="Group 19"/>
          <p:cNvGrpSpPr/>
          <p:nvPr/>
        </p:nvGrpSpPr>
        <p:grpSpPr>
          <a:xfrm>
            <a:off x="1828440" y="4543560"/>
            <a:ext cx="5677200" cy="1400040"/>
            <a:chOff x="1828440" y="4543560"/>
            <a:chExt cx="5677200" cy="1400040"/>
          </a:xfrm>
        </p:grpSpPr>
        <p:sp>
          <p:nvSpPr>
            <p:cNvPr id="207" name="Text Box 15"/>
            <p:cNvSpPr/>
            <p:nvPr/>
          </p:nvSpPr>
          <p:spPr>
            <a:xfrm>
              <a:off x="4838760" y="51195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atenating, chaining or cascading stream insertion operations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 flipH="1" flipV="1">
              <a:off x="3543480" y="4543560"/>
              <a:ext cx="129528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7"/>
            <p:cNvSpPr/>
            <p:nvPr/>
          </p:nvSpPr>
          <p:spPr>
            <a:xfrm flipH="1" flipV="1">
              <a:off x="2971800" y="4543560"/>
              <a:ext cx="186696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8"/>
            <p:cNvSpPr/>
            <p:nvPr/>
          </p:nvSpPr>
          <p:spPr>
            <a:xfrm flipH="1" flipV="1">
              <a:off x="1828440" y="4543560"/>
              <a:ext cx="300996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1" name="Group 23"/>
          <p:cNvGrpSpPr/>
          <p:nvPr/>
        </p:nvGrpSpPr>
        <p:grpSpPr>
          <a:xfrm>
            <a:off x="1676160" y="3400560"/>
            <a:ext cx="7086960" cy="1006560"/>
            <a:chOff x="1676160" y="3400560"/>
            <a:chExt cx="7086960" cy="1006560"/>
          </a:xfrm>
        </p:grpSpPr>
        <p:sp>
          <p:nvSpPr>
            <p:cNvPr id="212" name="Text Box 20"/>
            <p:cNvSpPr/>
            <p:nvPr/>
          </p:nvSpPr>
          <p:spPr>
            <a:xfrm>
              <a:off x="3124080" y="3400560"/>
              <a:ext cx="5639040" cy="1006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culations can be performed in output statements: alternative for lines 18 and 20: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d::cout &lt;&lt; </a:t>
              </a:r>
              <a:r>
                <a:rPr b="1" lang="en-US" sz="1200" spc="-1" strike="noStrike">
                  <a:solidFill>
                    <a:srgbClr val="0099ff"/>
                  </a:solidFill>
                  <a:latin typeface="Courier New"/>
                  <a:ea typeface="Courier New"/>
                </a:rPr>
                <a:t>"Sum is "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&lt;&lt; integer1 + integer2 &lt;&lt; std::endl;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Line 21"/>
            <p:cNvSpPr/>
            <p:nvPr/>
          </p:nvSpPr>
          <p:spPr>
            <a:xfrm flipH="1">
              <a:off x="1676160" y="35528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3" dur="1" fill="hold"/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20:42:50Z</dcterms:created>
  <dc:creator>Audrey Lee</dc:creator>
  <dc:description/>
  <dc:language>en-US</dc:language>
  <cp:lastModifiedBy>kaab zarrar</cp:lastModifiedBy>
  <dcterms:modified xsi:type="dcterms:W3CDTF">2020-03-26T09:47:21Z</dcterms:modified>
  <cp:revision>177</cp:revision>
  <dc:subject/>
  <dc:title>Chapter 1 – Introduction to Computers and C++ Programming</dc:title>
</cp:coreProperties>
</file>